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D509-CE59-4D5F-A598-F3E08BF6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83FD-7B6E-452B-940D-2AAFC0F12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5D45-1DB9-4766-81F3-C20A0815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7CBF-1C0C-4781-A924-EA8006FDA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1799-2E93-4362-B504-A9177868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BD46-B07B-41B4-B301-DD3AF3D69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7381-FD8B-4D47-A35E-189292253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03D8-DEBC-4D79-B15E-C9EBE0DC3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7FBE-4BCA-45A7-BB8D-94648A08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D0E8-0FEE-4490-985E-CDAAA5EAB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AB7-4D62-4F0C-B87A-F755811A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C2E-65C4-456F-B48E-0A87C5135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D34B-354B-4CF9-8778-DCC2895D1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1847-98C3-4D4C-B977-53513394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056-CF6B-4D24-AAA3-B137B929D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C84-97BC-4905-B4B8-FDAFEE91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D52-0FAB-46C7-8A49-0FDD37F4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385-CCD7-410E-A8D8-AF9FB1D5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E37-F693-46B0-A40E-8846AD3F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F3B-287F-4993-9677-56D9F146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7C7-7DF9-4902-A15B-915BAF3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383-7309-4305-819C-874EEB5C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A82-6AB8-4742-A064-9CE27D2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E4F-E357-4741-B75D-2A61A8D9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874-E142-4E68-9DC0-4731C76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F34-245D-4CA8-83BC-69161107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A4E-F3C0-46F3-A6DA-1AA3F29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35DA-2990-4C4C-A295-8ABDD7BB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i.org/" TargetMode="External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www.lii.org/" TargetMode="External"/><Relationship Id="rId4" Type="http://schemas.openxmlformats.org/officeDocument/2006/relationships/hyperlink" Target="http://infomine.ucr.edu/" TargetMode="External"/><Relationship Id="rId5" Type="http://schemas.openxmlformats.org/officeDocument/2006/relationships/hyperlink" Target="http://infomine.ucr.edu/" TargetMode="External"/><Relationship Id="rId6" Type="http://schemas.openxmlformats.org/officeDocument/2006/relationships/hyperlink" Target="http://infomine.ucr.edu/" TargetMode="External"/><Relationship Id="rId7" Type="http://schemas.openxmlformats.org/officeDocument/2006/relationships/hyperlink" Target="http://infomine.ucr.edu/" TargetMode="External"/><Relationship Id="rId8" Type="http://schemas.openxmlformats.org/officeDocument/2006/relationships/hyperlink" Target="http://infomine.ucr.edu/" TargetMode="External"/><Relationship Id="rId9" Type="http://schemas.openxmlformats.org/officeDocument/2006/relationships/hyperlink" Target="http://infomine.ucr.edu/" TargetMode="External"/><Relationship Id="rId10" Type="http://schemas.openxmlformats.org/officeDocument/2006/relationships/hyperlink" Target="http://www.about.com/" TargetMode="External"/><Relationship Id="rId11" Type="http://schemas.openxmlformats.org/officeDocument/2006/relationships/hyperlink" Target="http://school.nettrekker.com/frontdoor" TargetMode="External"/><Relationship Id="rId12" Type="http://schemas.openxmlformats.org/officeDocument/2006/relationships/hyperlink" Target="http://school.nettrekker.com/frontdoor" TargetMode="External"/><Relationship Id="rId13" Type="http://schemas.openxmlformats.org/officeDocument/2006/relationships/hyperlink" Target="http://school.nettrekker.com/frontdoor" TargetMode="External"/><Relationship Id="rId14" Type="http://schemas.openxmlformats.org/officeDocument/2006/relationships/hyperlink" Target="http://school.nettrekker.com/frontdoor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ur Search T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7D0-E930-4E26-8169-A5A47CA0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3499560000[1]"/>
          <p:cNvPicPr/>
          <p:nvPr/>
        </p:nvPicPr>
        <p:blipFill>
          <a:blip r:embed="rId1"/>
          <a:stretch/>
        </p:blipFill>
        <p:spPr>
          <a:xfrm>
            <a:off x="2951280" y="1952640"/>
            <a:ext cx="2550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Directori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09680" y="16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websites and web pages by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web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more focused searches tha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arched by “drilling down” through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arched by keyword, subject, Boolean search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C7E9-F3E6-4926-8C7E-3DE91A07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excellent subject director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an’s Interne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i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/infomi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c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abou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chool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nettrekk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om/fron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90E1-784F-4115-9870-A236AB4B8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rector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uthorit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to narrow your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do not have specific search terms (keywords, subject terms, names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want the smallest number of sour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0C5B-13E6-48EF-B8A7-6CE54B6B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ヒラギノ角ゴ ProN W3"/>
              </a:rPr>
              <a:t>_x0016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tTrekk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resources aimed at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to search the Net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differentiated resources (elementary, MS, HS, E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to tailor resources to you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6360" y="836640"/>
            <a:ext cx="792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news.nationalgeographic.com/news/2007/11/photogalleries/wip-week56/images/primary/1_461.jpg"/>
          <p:cNvPicPr/>
          <p:nvPr/>
        </p:nvPicPr>
        <p:blipFill>
          <a:blip r:embed="rId2"/>
          <a:stretch/>
        </p:blipFill>
        <p:spPr>
          <a:xfrm>
            <a:off x="1800360" y="1808280"/>
            <a:ext cx="5484600" cy="383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ool Would You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E533-3094-4F5C-9176-309881C0B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4024440" y="2462040"/>
            <a:ext cx="1636200" cy="2893680"/>
            <a:chOff x="4024440" y="2462040"/>
            <a:chExt cx="1636200" cy="2893680"/>
          </a:xfrm>
        </p:grpSpPr>
        <p:sp>
          <p:nvSpPr>
            <p:cNvPr id="55" name="AutoShape 11"/>
            <p:cNvSpPr/>
            <p:nvPr/>
          </p:nvSpPr>
          <p:spPr>
            <a:xfrm>
              <a:off x="4024440" y="2462040"/>
              <a:ext cx="1636200" cy="28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5630040" y="2592720"/>
              <a:ext cx="30600" cy="26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4038120" y="2588040"/>
              <a:ext cx="161748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4041000" y="2597760"/>
              <a:ext cx="1602720" cy="2626920"/>
            </a:xfrm>
            <a:prstGeom prst="rect">
              <a:avLst/>
            </a:prstGeom>
            <a:solidFill>
              <a:srgbClr val="60a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5630040" y="2592720"/>
              <a:ext cx="30600" cy="26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4041000" y="2597760"/>
              <a:ext cx="911880" cy="2626920"/>
            </a:xfrm>
            <a:prstGeom prst="rect">
              <a:avLst/>
            </a:prstGeom>
            <a:solidFill>
              <a:srgbClr val="002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4038120" y="2588040"/>
              <a:ext cx="161748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4024440" y="2592720"/>
              <a:ext cx="30600" cy="26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4038120" y="5203440"/>
              <a:ext cx="161748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4344840" y="2509920"/>
              <a:ext cx="1092240" cy="353880"/>
            </a:xfrm>
            <a:prstGeom prst="pie">
              <a:avLst/>
            </a:prstGeom>
            <a:solidFill>
              <a:srgbClr val="cc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4347000" y="2588040"/>
              <a:ext cx="1000080" cy="1299240"/>
            </a:xfrm>
            <a:prstGeom prst="pie">
              <a:avLst/>
            </a:prstGeom>
            <a:solidFill>
              <a:srgbClr val="a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4337640" y="2642760"/>
              <a:ext cx="1049760" cy="128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4805280" y="2483280"/>
              <a:ext cx="653040" cy="31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4596120" y="2664000"/>
              <a:ext cx="206640" cy="21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5050440" y="2526480"/>
              <a:ext cx="12816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4532040" y="3839760"/>
              <a:ext cx="565560" cy="1451160"/>
            </a:xfrm>
            <a:prstGeom prst="pie">
              <a:avLst/>
            </a:prstGeom>
            <a:solidFill>
              <a:srgbClr val="cc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4518360" y="3825720"/>
              <a:ext cx="617040" cy="152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4663080" y="3939480"/>
              <a:ext cx="408240" cy="27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4575240" y="4046760"/>
              <a:ext cx="517320" cy="34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4658400" y="4284360"/>
              <a:ext cx="3182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4537080" y="4455000"/>
              <a:ext cx="458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4644360" y="4709160"/>
              <a:ext cx="246600" cy="14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4593960" y="3887280"/>
              <a:ext cx="263160" cy="17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4605840" y="4868640"/>
              <a:ext cx="27288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4302360" y="2464560"/>
              <a:ext cx="800280" cy="28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wisely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Program Files\Microsoft Office\MEDIA\CAGCAT10\j0302827.jpg"/>
          <p:cNvPicPr/>
          <p:nvPr/>
        </p:nvPicPr>
        <p:blipFill>
          <a:blip r:embed="rId1"/>
          <a:stretch/>
        </p:blipFill>
        <p:spPr>
          <a:xfrm>
            <a:off x="1695600" y="1600200"/>
            <a:ext cx="156024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Sponge%20Pads%20-%20Cellulose%20Sponge"/>
          <p:cNvPicPr/>
          <p:nvPr/>
        </p:nvPicPr>
        <p:blipFill>
          <a:blip r:embed="rId2"/>
          <a:stretch/>
        </p:blipFill>
        <p:spPr>
          <a:xfrm>
            <a:off x="1380960" y="3938760"/>
            <a:ext cx="2190960" cy="218592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D25F-EC54-440A-8316-FEAEFBD4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MPj03865140000[1]"/>
          <p:cNvPicPr/>
          <p:nvPr/>
        </p:nvPicPr>
        <p:blipFill>
          <a:blip r:embed="rId3"/>
          <a:stretch/>
        </p:blipFill>
        <p:spPr>
          <a:xfrm>
            <a:off x="5135400" y="1600200"/>
            <a:ext cx="306396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MPj03869690000[1]"/>
          <p:cNvPicPr/>
          <p:nvPr/>
        </p:nvPicPr>
        <p:blipFill>
          <a:blip r:embed="rId4"/>
          <a:stretch/>
        </p:blipFill>
        <p:spPr>
          <a:xfrm>
            <a:off x="5886360" y="3938760"/>
            <a:ext cx="1560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f you only use a hammer, everything is a nail…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0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e Right Tool for the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our basic tools online for researching inform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upplies information in a differen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as its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as its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tool does i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3B8-28F1-4041-A219-CC008AED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ata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374-62EB-4DAA-9698-CB1267A6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upon a tim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111640" y="443700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016000" y="2276640"/>
            <a:ext cx="2917800" cy="218736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091D-09FC-4C0B-BCF9-3908124EB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onkey"/>
          <p:cNvPicPr/>
          <p:nvPr/>
        </p:nvPicPr>
        <p:blipFill>
          <a:blip r:embed="rId1"/>
          <a:stretch/>
        </p:blipFill>
        <p:spPr>
          <a:xfrm>
            <a:off x="1646280" y="1828800"/>
            <a:ext cx="5529240" cy="3814920"/>
          </a:xfrm>
          <a:prstGeom prst="rect">
            <a:avLst/>
          </a:prstGeom>
          <a:ln w="0">
            <a:noFill/>
          </a:ln>
        </p:spPr>
      </p:pic>
      <p:sp>
        <p:nvSpPr>
          <p:cNvPr id="10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5145-F245-42F5-BA0C-114C149C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54:45Z</dcterms:created>
  <dc:creator>Administrator</dc:creator>
  <dc:description/>
  <dc:language>en-US</dc:language>
  <cp:lastModifiedBy>ASD Staff</cp:lastModifiedBy>
  <dcterms:modified xsi:type="dcterms:W3CDTF">2008-12-01T06:07:50Z</dcterms:modified>
  <cp:revision>21</cp:revision>
  <dc:subject/>
  <dc:title>Four Search Tools</dc:title>
</cp:coreProperties>
</file>